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E71-EBB2-41AB-AF62-A895AF71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015-2007-4A46-A3B1-52694525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4FC-C22A-4683-934B-1BBEB23A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77F-103C-4BE7-B00C-D3C069B9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14F-D249-4AC7-98E3-6A72F73A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388-E66E-46AB-9B2A-9F00F4F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7EC-6119-4240-9766-0B544A0E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C21-BB89-4937-8902-9BAD2CD8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7E1-C724-4B17-B972-80EA8F9D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B17-10A1-4313-8B1B-EF75DD6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7EF-B9E2-4212-80F1-665FFBE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927-38CA-456F-9A81-8973DCF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EA33-E300-4804-81C5-E2D73A46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6040" y="6858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2000" y="230040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6280" y="4038480"/>
            <a:ext cx="166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6320" y="4038480"/>
            <a:ext cx="167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914400"/>
            <a:ext cx="601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14600"/>
            <a:ext cx="601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629400"/>
            <a:ext cx="601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" y="624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8920" y="556272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280" y="556272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 Call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4191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ll Call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Call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Call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 Put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4191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ll Put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Put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Put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 Put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4191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ar Put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Put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Put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Condor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4191120"/>
            <a:ext cx="441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ron Con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Put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Put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Put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Put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962520"/>
            <a:ext cx="441936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78168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0400" y="6477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2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line Trading Academy Option 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733920"/>
            <a:ext cx="441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Strategy: 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: 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733920"/>
            <a:ext cx="441972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tra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9625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a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553080"/>
            <a:ext cx="632448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24852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tra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9625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a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6553080"/>
            <a:ext cx="662940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624852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tr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9625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6553080"/>
            <a:ext cx="640080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24852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tr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9625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Ca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6553080"/>
            <a:ext cx="640080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624852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y-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9625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ter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2 Calls Middle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y- 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96252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tter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Put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2 Puts Middle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700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________      Security:_______    Expiration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" y="118584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4320" y="171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1160" y="2100240"/>
            <a:ext cx="16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: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62840" y="1690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: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8920" y="23623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: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63360" y="11858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126216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 Call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676520"/>
            <a:ext cx="19051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01080" y="169056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rofi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1676520"/>
            <a:ext cx="22096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01080" y="268128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2666880"/>
            <a:ext cx="22096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5440" y="373392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3657600"/>
            <a:ext cx="140328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5440" y="47242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6483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5440" y="563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5562720"/>
            <a:ext cx="140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1676520"/>
            <a:ext cx="17524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4191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ar Call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 Call Low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all High Str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3962520"/>
            <a:ext cx="4419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4400" y="1157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5400" y="1157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1219320"/>
            <a:ext cx="3812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1219320"/>
            <a:ext cx="3808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6172200"/>
            <a:ext cx="6476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6400800"/>
            <a:ext cx="64008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2:41:35Z</dcterms:created>
  <dc:creator>merlin</dc:creator>
  <dc:description/>
  <dc:language>en-US</dc:language>
  <cp:lastModifiedBy>Sam Seiden</cp:lastModifiedBy>
  <dcterms:modified xsi:type="dcterms:W3CDTF">2007-08-27T18:03:08Z</dcterms:modified>
  <cp:revision>53</cp:revision>
  <dc:subject/>
  <dc:title>Slide 1</dc:title>
</cp:coreProperties>
</file>